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343-786D-45AF-83F5-52BFC274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0B2-584F-4A05-8331-28A6DD13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97A-59EE-4B81-9196-1C6112F5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1CD-C71F-4E38-8A4D-748891D5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969A-78EF-4FE7-8319-965C3B0F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5364-F543-4D41-9EA1-0F29B298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E492-2EA8-4702-8DF8-F67E4934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155E-5432-413B-90CF-D3336585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20D7-E596-418E-ABA4-46CA4383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18BC-20A1-4454-9A97-C0AAC6DD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03AE-83C7-4D7A-9303-B02EA658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89B-748D-41E8-9843-1F3D9872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1445-6311-4280-8296-56CDA8E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3A08-B9E0-4990-8FE7-63628E55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0957-D5AC-46BC-9A48-0E9A054E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BB08-DB15-40EF-AF01-2DCABC57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60D-0FDA-451D-B5CC-05E429EA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061-DE29-433A-9740-9ECF0DDA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476-9C00-4D4C-84CB-423CF718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430-6B45-46CE-9DB7-3C9D6073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9C2-A8A9-4434-B7EA-9D2DB94A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20F-574C-4174-AA61-70EA94C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99D-3230-4FCB-BAC0-0BDEBB4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11D-365C-435D-8F1F-C4119500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350B-8339-4DAB-A293-BC23664622ED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889760" y="5975280"/>
            <a:ext cx="12542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BAC4-9ADB-45D2-96F4-8DF894CD6485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889760" y="5975280"/>
            <a:ext cx="1254240" cy="88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becta.org.uk/index.php?section=srf&amp;catcode=ss_to_srf_suc_icm_ben_04&amp;rid=14207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anttSRF.xl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atrix.becta.org.uk/GMATRIX_1084745_76010368/1190829572328/rebrand/matrix/evaluate.cfm?catid=643&amp;catindex=1&amp;catname=1a%2E%20The%20vision%20for%20IC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ECTA ICT Self Review Framewor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il Cl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tober 23rd 200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ICT Mark – Why bother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rifies your own self-review judgemen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s whole school improvemen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an opportunity to be seen as centre of excellen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you with credibility for hosting visits and providing servic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an opportunity for learners to celebrate their use of IC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ives parents confidence that technology is being used effectivel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s parents that you offer better communication to families and hom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he ICT Mark – Why bother cont’d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forms other schools and organisations that you are a potential partner for extending opportunities for learning through technolog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trengthens your bids for involvement in new initiativ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cognises your commitment to self-review and evalua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cognises your commitment and hard work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cludes promotional material and guidance on how to use the ICT Mark to promote your scho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does it add value</a:t>
            </a:r>
            <a:r>
              <a:rPr b="0" lang="en-US" sz="4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s the learning and teaching of IC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sure we utilise our resources full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ECTA Self Review Framework (SRF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has this got to do with you – the teaching staff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SRF, and what does it entail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ECTA Self Review Framework (SRF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has this got to do with you – the teaching staff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SRF, and what does it entail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has this got to do with you – the teaching staff?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What has this got to do with you – the teaching staff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ware that the SRF process has begu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gnise that the SRF will hopefully lead to the ICT Mar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ware that a folder exists on Office called SR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gnise that we will all be involved in the SR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ed to demonstrate the use of ICT in plannin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kely Review of the Eight Elements by the teaching staf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vision of ‘Evidence’ in accordance with the Action Pl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ware that a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Gantt Chart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xists the SRF folder – you may wish to keep a hard copy in your planning fi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the SRF, and what does it entail?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 is the SRF, and what does it entail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CT self-review framework comprises eight element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dership &amp; Manage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rriculu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rning &amp; Te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sess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fessional Develop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tending Opportunities For Lear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act On Pupil Outco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.g. 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Learning &amp; Teaching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ore the stran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nerate an action to enable the reviewer to provide appropriate evidence to support the sco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‘ICT Mark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 is the SRF, and what does it entail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ICT Mark – Why bothe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is an externally assessed quality mark against which organisations can measure whether they have reached a recognised standard of maturity in their use of technolog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2:40:28Z</dcterms:created>
  <dc:creator>neil clode</dc:creator>
  <dc:description/>
  <dc:language>en-US</dc:language>
  <cp:lastModifiedBy>neil clode</cp:lastModifiedBy>
  <dcterms:modified xsi:type="dcterms:W3CDTF">2007-10-22T12:13:52Z</dcterms:modified>
  <cp:revision>21</cp:revision>
  <dc:subject/>
  <dc:title>BECTA Self Review Framework (SRF)</dc:title>
</cp:coreProperties>
</file>